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934B-12F0-447E-8EE2-FEBE2BFAB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19EC-2413-4D4F-B290-45D5399F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4B5F-5019-49A8-8147-779734C19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F1EC-2A91-4421-9E20-AAC4C840D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C3FA-BF41-411B-8D46-2B7D5933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49D7-D845-48D7-9667-11F8BB67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34A7-073B-4FA3-B084-BA2D32D2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2DFA-16C9-43B2-A116-0F2C1639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5759-4D54-4317-BC0A-C154034B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FB2E-EF5C-4ED2-9196-D5B8A9E7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FE14-6F44-4BCE-81A4-E0B17823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408E-8DE9-48F1-BA0F-EC1B1F07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BF94-FAD8-4EAD-9E83-5AE5ACC68E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0200" y="5214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</a:rPr>
              <a:t>Krejzová Alice, Povolná Martina, Foglová Luc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délník 8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827760" cy="1152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délník 1" descr=""/>
          <p:cNvPicPr/>
          <p:nvPr/>
        </p:nvPicPr>
        <p:blipFill>
          <a:blip r:embed="rId1"/>
          <a:stretch/>
        </p:blipFill>
        <p:spPr>
          <a:xfrm>
            <a:off x="1279440" y="804960"/>
            <a:ext cx="6853320" cy="1152360"/>
          </a:xfrm>
          <a:prstGeom prst="rect">
            <a:avLst/>
          </a:prstGeom>
          <a:ln w="0">
            <a:noFill/>
          </a:ln>
        </p:spPr>
      </p:pic>
      <p:sp>
        <p:nvSpPr>
          <p:cNvPr id="78" name="TextovéPole 3"/>
          <p:cNvSpPr/>
          <p:nvPr/>
        </p:nvSpPr>
        <p:spPr>
          <a:xfrm>
            <a:off x="355680" y="3857760"/>
            <a:ext cx="805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jvýhodnější je půjčit pení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amarádovi, přestože je to nejrizikovějš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171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ěkujeme za pozor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C:\Documents and Settings\skola\Local Settings\Temporary Internet Files\Content.IE5\PUTQN72Y\MCj04241980000[1].wmf"/>
          <p:cNvPicPr/>
          <p:nvPr/>
        </p:nvPicPr>
        <p:blipFill>
          <a:blip r:embed="rId1"/>
          <a:stretch/>
        </p:blipFill>
        <p:spPr>
          <a:xfrm>
            <a:off x="214200" y="5000760"/>
            <a:ext cx="2152800" cy="1380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C:\Documents and Settings\skola\Local Settings\Temporary Internet Files\Content.IE5\NT2XGS1P\MCj04242180000[1].wmf"/>
          <p:cNvPicPr/>
          <p:nvPr/>
        </p:nvPicPr>
        <p:blipFill>
          <a:blip r:embed="rId2"/>
          <a:stretch/>
        </p:blipFill>
        <p:spPr>
          <a:xfrm>
            <a:off x="7072200" y="4857840"/>
            <a:ext cx="1860840" cy="156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bdélník 1" descr=""/>
          <p:cNvPicPr/>
          <p:nvPr/>
        </p:nvPicPr>
        <p:blipFill>
          <a:blip r:embed="rId1"/>
          <a:stretch/>
        </p:blipFill>
        <p:spPr>
          <a:xfrm>
            <a:off x="1566720" y="231840"/>
            <a:ext cx="5967720" cy="1974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714240" y="2643120"/>
          <a:ext cx="7929720" cy="3457800"/>
        </p:xfrm>
        <a:graphic>
          <a:graphicData uri="http://schemas.openxmlformats.org/drawingml/2006/table">
            <a:tbl>
              <a:tblPr/>
              <a:tblGrid>
                <a:gridCol w="1163880"/>
                <a:gridCol w="1163520"/>
                <a:gridCol w="1289160"/>
                <a:gridCol w="1163520"/>
                <a:gridCol w="1163520"/>
                <a:gridCol w="992160"/>
                <a:gridCol w="993960"/>
              </a:tblGrid>
              <a:tr h="35640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 = 5 % p. 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 = j</a:t>
                      </a:r>
                      <a:r>
                        <a:rPr b="1" lang="pl-PL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x p/100 x d/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640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16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 000 x 5/100 x 360/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 = 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 = 8 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6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n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173 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hody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ástka z úroků je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50 K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výhody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námý nemusí splat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ní pojiště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oční úroky u jednotlivých produkt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3995640" cy="76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E Money B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79280" y="4143240"/>
          <a:ext cx="4608720" cy="1113120"/>
        </p:xfrm>
        <a:graphic>
          <a:graphicData uri="http://schemas.openxmlformats.org/drawingml/2006/table">
            <a:tbl>
              <a:tblPr/>
              <a:tblGrid>
                <a:gridCol w="2303640"/>
                <a:gridCol w="2305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 067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02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3280" y="264276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932360" y="4149720"/>
          <a:ext cx="4041720" cy="1112760"/>
        </p:xfrm>
        <a:graphic>
          <a:graphicData uri="http://schemas.openxmlformats.org/drawingml/2006/table">
            <a:tbl>
              <a:tblPr/>
              <a:tblGrid>
                <a:gridCol w="2021040"/>
                <a:gridCol w="2020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 137,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963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62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ovnání ceny zřízení produkt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28760" y="2999880"/>
            <a:ext cx="40399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E Money Bank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79280" y="4286160"/>
          <a:ext cx="4608720" cy="1112760"/>
        </p:xfrm>
        <a:graphic>
          <a:graphicData uri="http://schemas.openxmlformats.org/drawingml/2006/table">
            <a:tbl>
              <a:tblPr/>
              <a:tblGrid>
                <a:gridCol w="2301840"/>
                <a:gridCol w="2306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3280" y="3071880"/>
            <a:ext cx="4042080" cy="4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932360" y="4292640"/>
          <a:ext cx="4041720" cy="1112760"/>
        </p:xfrm>
        <a:graphic>
          <a:graphicData uri="http://schemas.openxmlformats.org/drawingml/2006/table">
            <a:tbl>
              <a:tblPr/>
              <a:tblGrid>
                <a:gridCol w="2021040"/>
                <a:gridCol w="2020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platky za vedení produktů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měsíčně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6760" y="26427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E Money B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3280" y="264276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932360" y="4292640"/>
          <a:ext cx="4041720" cy="1112760"/>
        </p:xfrm>
        <a:graphic>
          <a:graphicData uri="http://schemas.openxmlformats.org/drawingml/2006/table">
            <a:tbl>
              <a:tblPr/>
              <a:tblGrid>
                <a:gridCol w="2021040"/>
                <a:gridCol w="2020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179280" y="4286160"/>
          <a:ext cx="4537080" cy="1112760"/>
        </p:xfrm>
        <a:graphic>
          <a:graphicData uri="http://schemas.openxmlformats.org/drawingml/2006/table">
            <a:tbl>
              <a:tblPr/>
              <a:tblGrid>
                <a:gridCol w="2268720"/>
                <a:gridCol w="2268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z. další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Běžné účty GE Money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ěsíční poplat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o Genius Acti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o Genius Activ 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o Genius Gol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o Geni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ěžný účet Geni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ěžný korunový úč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vede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ěsíční zasílání výpis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28760" y="264276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E Money B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3280" y="264276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79280" y="4221000"/>
          <a:ext cx="4608720" cy="1113120"/>
        </p:xfrm>
        <a:graphic>
          <a:graphicData uri="http://schemas.openxmlformats.org/drawingml/2006/table">
            <a:tbl>
              <a:tblPr/>
              <a:tblGrid>
                <a:gridCol w="2303640"/>
                <a:gridCol w="2305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z. další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932360" y="4221000"/>
          <a:ext cx="4041720" cy="1108080"/>
        </p:xfrm>
        <a:graphic>
          <a:graphicData uri="http://schemas.openxmlformats.org/drawingml/2006/table">
            <a:tbl>
              <a:tblPr/>
              <a:tblGrid>
                <a:gridCol w="2021040"/>
                <a:gridCol w="202068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149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rušení produk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79280" y="4149720"/>
          <a:ext cx="4572000" cy="1224000"/>
        </p:xfrm>
        <a:graphic>
          <a:graphicData uri="http://schemas.openxmlformats.org/drawingml/2006/table">
            <a:tbl>
              <a:tblPr/>
              <a:tblGrid>
                <a:gridCol w="2287800"/>
                <a:gridCol w="2284200"/>
              </a:tblGrid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71" name="Rectangle 41"/>
          <p:cNvSpPr/>
          <p:nvPr/>
        </p:nvSpPr>
        <p:spPr>
          <a:xfrm>
            <a:off x="971640" y="3068640"/>
            <a:ext cx="28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E Money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Zástupný symbol pro text 4"/>
          <p:cNvSpPr/>
          <p:nvPr/>
        </p:nvSpPr>
        <p:spPr>
          <a:xfrm>
            <a:off x="4859280" y="28526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859280" y="4149720"/>
          <a:ext cx="4100400" cy="1224000"/>
        </p:xfrm>
        <a:graphic>
          <a:graphicData uri="http://schemas.openxmlformats.org/drawingml/2006/table">
            <a:tbl>
              <a:tblPr/>
              <a:tblGrid>
                <a:gridCol w="2051280"/>
                <a:gridCol w="2049120"/>
              </a:tblGrid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jvýhodnější produkt GE Money Bank je: TERMÍNOVANÝ VKL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eškeré služby jsou zdar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Úrok p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. 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cs-CZ" sz="2800" spc="-1" strike="noStrike" u="sng">
                <a:solidFill>
                  <a:srgbClr val="ffff00"/>
                </a:solidFill>
                <a:uFillTx/>
                <a:latin typeface="Arial"/>
              </a:rPr>
              <a:t>4 067,25 K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výhodnější produkt České spořitelny je: VKLADOVÝ ÚČ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škeré služby jsou zdar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Úrok p. a. 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4 137,38 K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000"/>
                            </p:stCondLst>
                            <p:childTnLst>
                              <p:par>
                                <p:cTn id="1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0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1:41:13Z</dcterms:created>
  <dc:creator>OA TGM a JŠ</dc:creator>
  <dc:description/>
  <dc:language>en-US</dc:language>
  <cp:lastModifiedBy>OEM</cp:lastModifiedBy>
  <dcterms:modified xsi:type="dcterms:W3CDTF">2008-08-10T21:06:05Z</dcterms:modified>
  <cp:revision>12</cp:revision>
  <dc:subject/>
  <dc:title>Úroky u jednotlivých produktů</dc:title>
</cp:coreProperties>
</file>