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77296-B50D-408B-8859-06EB388A11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904F5-3A82-4C37-9AC1-7083906BBF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A8F3-E825-4A79-A7BA-D3757C46F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F896-6FCB-4350-B89A-C40447F6C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358D-8514-4696-AEC3-1C782527F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933A-1F41-4022-9197-107B82A04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8B17-65FE-4DA0-8A1A-862C3E832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3CFF-EE5D-4592-B92B-7ED00F276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42DF-2806-4548-B21A-2AFE7811B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B6AE-35E9-492A-B973-1C8894A5D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50A4-F387-453F-9B1A-A84F16EFA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333B-54DA-49B0-AB10-9B12C1D8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A08A-D1EF-4065-8B24-9722B44F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1FE1-2CBB-4C7F-86E8-783C4269B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199B1-D10C-470C-9485-30A5E4AE45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2133360"/>
            <a:ext cx="8964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Individuální výchovný plán</a:t>
            </a:r>
            <a:endParaRPr b="1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áclav Mertin</a:t>
            </a:r>
            <a:br>
              <a:rPr sz="3200"/>
            </a:b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4.4.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Calibri"/>
              </a:rPr>
              <a:t>Začlenění „nátlaku“ do kontextu stávajících předpisů</a:t>
            </a:r>
            <a:endParaRPr b="1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Školský zák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ákon o rodin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vinnost pečovat o tělesné a duševní zdrav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ávaznost péče a dáv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VýP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 této fázi vznikne plán podpory, který podepíše škola, rodiče, event. i žá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VýP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onkrét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učn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lizovateln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ontrolovateln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Úkoly“ pro všechny zúčastněn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Komplikace realizace IVýP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dič odmítne podeps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á právo, škola plní to, co lze bez souhlasu rodičů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dič je upozorněn na navazující kroky školy, když se situace nebude lepš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dič odsouhlasí, podepíše a neplní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škola naléhá na plnění nebo modifikuje návrh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dič je upozorněn na navazující kroky školy, když se situace nebude lepš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Návaznost dalších opatření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 vyšetření a začlenění do kategorií, ale hledání a poskytování c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aktická pomoc poradenského systému  (individuální a skupinová práce s dětmi, vzdělávání rodičů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eálná podpora OSPOD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padná psychiatrická pomo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olnočasové ak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Změny na straně školství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Školství musí zajistit vzdělávání učitelů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vinná školní docházka by se měla změnit na povinné vzdělávání (změna ústavního zákon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Otevře se větší prostor rodině, ale i ško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Aby došlo ke vzdělávání ve škole, musí i rodiče akceptovat podmínky ško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raznější reorientace poradenských služe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cs-CZ" sz="4800" spc="-1" strike="noStrike">
                <a:solidFill>
                  <a:srgbClr val="000000"/>
                </a:solidFill>
                <a:latin typeface="Calibri"/>
              </a:rPr>
              <a:t>Rádio Jerevan</a:t>
            </a:r>
            <a:r>
              <a:rPr b="1" lang="cs-CZ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4800" spc="-1" strike="noStrike">
                <a:solidFill>
                  <a:srgbClr val="000000"/>
                </a:solidFill>
                <a:latin typeface="Calibri"/>
              </a:rPr>
              <a:t>hlásí“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Školy budou nekázeň žáků 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řešit smlouvou s rodiči, 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navrhl ministr Dobe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(idnes.cz, 2.4.2011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Problémy s chováním žáků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sou reáln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bírají čas na uč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hrožují bezpečnost a pohodu žáků i učitel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nižují efekt výu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Možná řešení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sílení pozice učitele (např. učitel jako veřejná osoba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Zvýraznění sankcí vůči žákům i rodičů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ístnosti ve škole, kde by byl žák pod dohlede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Vyšetření v PPP bez souhlasu rodičů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debírání dáv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Škola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Calibri"/>
              </a:rPr>
              <a:t>odborná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 edukační instituce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mární zaměření na edukaci, tedy na vzdělání a výchovu dítě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kundární zaměření na podporu a pomoc rodičů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IVýP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Individuální výchovný plán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VýP vytváří ráme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VýP není řešení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Individuální výchovný plán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1912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Zaměřený primárně na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omoc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dítěti, rodině i učiteli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ž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ekundárně na repres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aguje na potenciální ohrožení nebo na problémy v zárodk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1. fáze IVýP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Učitel zachytí možnost problémů či jejich výskyt 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Nutno začít na prvním stupni (problémy nebývají závažné, rodiče jsou ochotnější spolupracovat)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Kontakt s rodiči,  konkrétní domluva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Stručný zápis, žádná formalizovaná dohoda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2. fáze IVýP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-536040">
              <a:spcBef>
                <a:spcPts val="799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jde ke zlepšení/nenastane problé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6040" indent="-536040"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69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ní dále co řeš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6040" indent="-536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Problém přetrvává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69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intenzívnění práce školy, spolupráce s rodiči, s odbornými institucem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69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lást otázky, co lze udělat ke zlepšení situace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69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vádět možnosti školy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69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žádat, co udělají rodiče, případně někdo jin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69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vést i další postup, když se situace nebude měnit - zesílení „nátlaku“ na rodič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08:06:01Z</dcterms:created>
  <dc:creator>notebook</dc:creator>
  <dc:description/>
  <dc:language>en-US</dc:language>
  <cp:lastModifiedBy>Install</cp:lastModifiedBy>
  <dcterms:modified xsi:type="dcterms:W3CDTF">2011-04-04T04:58:53Z</dcterms:modified>
  <cp:revision>39</cp:revision>
  <dc:subject/>
  <dc:title>Individuální výchovný plán</dc:title>
</cp:coreProperties>
</file>