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328-0D7A-4890-809A-53189905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E7A-806A-4EE8-B855-9F242FDE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65B7-80ED-45FB-9E1C-68100F5B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CD5-EE25-45F4-BE1E-7502A509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4F9-C377-4E4A-9ED7-F5930AFA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496-049D-41A7-AE47-2728B08C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F72-2EC2-4FA7-A0E5-BEC29FD7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98F-8571-444F-A5E4-D60B8B8E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CEB-0B95-4970-B91C-310CAACF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7E1-4A27-4AA0-8AE4-5EB39C4D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C13-FA44-41A6-8B7B-9B4B29BB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50E-EED2-4166-A423-78A9D313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E2FE-9AE7-4985-BEE2-7D4A6757D669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17760" y="0"/>
            <a:ext cx="67183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-31680" y="1484280"/>
            <a:ext cx="9175680" cy="509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edDr. Miroslava Salav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ÚP Pr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-30240" y="6553080"/>
            <a:ext cx="20923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6"/>
          <a:stretch/>
        </p:blipFill>
        <p:spPr>
          <a:xfrm>
            <a:off x="-22320" y="0"/>
            <a:ext cx="2649600" cy="15350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0" name="Text Box 12"/>
          <p:cNvSpPr/>
          <p:nvPr/>
        </p:nvSpPr>
        <p:spPr>
          <a:xfrm>
            <a:off x="250920" y="2492280"/>
            <a:ext cx="856908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Arial"/>
              </a:rPr>
              <a:t>Zahraniční zkušenost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mlouvy rodičů se škol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36760" y="0"/>
            <a:ext cx="6829560" cy="2781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-15840" y="1521000"/>
            <a:ext cx="9191520" cy="52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</a:t>
            </a: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ystémy využívání ve svě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 COPA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ng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statní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84680" cy="30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57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755640" y="365904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324000" y="14698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bsah prezen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8"/>
          <a:stretch/>
        </p:blipFill>
        <p:spPr>
          <a:xfrm>
            <a:off x="755640" y="2997360"/>
            <a:ext cx="250920" cy="24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9"/>
          <a:stretch/>
        </p:blipFill>
        <p:spPr>
          <a:xfrm>
            <a:off x="755640" y="43117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10"/>
          <a:stretch/>
        </p:blipFill>
        <p:spPr>
          <a:xfrm>
            <a:off x="754200" y="4950000"/>
            <a:ext cx="250560" cy="24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11"/>
          <a:stretch/>
        </p:blipFill>
        <p:spPr>
          <a:xfrm>
            <a:off x="757080" y="564984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-7920" y="1484280"/>
            <a:ext cx="915984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ní</a:t>
            </a:r>
            <a:r>
              <a:rPr b="1" lang="cs-CZ" sz="2800" spc="-1" strike="noStrike">
                <a:solidFill>
                  <a:srgbClr val="003f7e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ne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povin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75" name="Picture 22" descr=""/>
          <p:cNvPicPr/>
          <p:nvPr/>
        </p:nvPicPr>
        <p:blipFill>
          <a:blip r:embed="rId7"/>
          <a:stretch/>
        </p:blipFill>
        <p:spPr>
          <a:xfrm>
            <a:off x="755640" y="3429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Systémy využívání ve svět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24" descr=""/>
          <p:cNvPicPr/>
          <p:nvPr/>
        </p:nvPicPr>
        <p:blipFill>
          <a:blip r:embed="rId8"/>
          <a:stretch/>
        </p:blipFill>
        <p:spPr>
          <a:xfrm>
            <a:off x="755640" y="5315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9"/>
          <a:stretch/>
        </p:blipFill>
        <p:spPr>
          <a:xfrm>
            <a:off x="755640" y="40449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10"/>
          <a:stretch/>
        </p:blipFill>
        <p:spPr>
          <a:xfrm>
            <a:off x="755640" y="4694400"/>
            <a:ext cx="250920" cy="2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95440" y="0"/>
            <a:ext cx="675648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-15840" y="1484280"/>
            <a:ext cx="9190080" cy="52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0 zemí E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komparativní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školy 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áž dohody rodičů se škol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obrovol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závaz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osvědčily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755640" y="420696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24000" y="141300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Projekt COPAS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Cooperation-Parents-Scho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8"/>
          <a:stretch/>
        </p:blipFill>
        <p:spPr>
          <a:xfrm>
            <a:off x="755640" y="29242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/>
          <p:cNvPicPr/>
          <p:nvPr/>
        </p:nvPicPr>
        <p:blipFill>
          <a:blip r:embed="rId9"/>
          <a:stretch/>
        </p:blipFill>
        <p:spPr>
          <a:xfrm>
            <a:off x="755640" y="4829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10"/>
          <a:stretch/>
        </p:blipFill>
        <p:spPr>
          <a:xfrm>
            <a:off x="760320" y="35496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-7920" y="1484280"/>
            <a:ext cx="9183600" cy="513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z rozhodnutí zemských vlád a úř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ntrální řízení – pouze koordin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celoplošné uží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ávní základ ve školských zákon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truktura a použití v kompetenci šk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900520" cy="30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770040" y="3611520"/>
            <a:ext cx="25056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Německ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8"/>
          <a:stretch/>
        </p:blipFill>
        <p:spPr>
          <a:xfrm>
            <a:off x="771480" y="29494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9"/>
          <a:stretch/>
        </p:blipFill>
        <p:spPr>
          <a:xfrm>
            <a:off x="770040" y="4253040"/>
            <a:ext cx="250560" cy="2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10"/>
          <a:stretch/>
        </p:blipFill>
        <p:spPr>
          <a:xfrm>
            <a:off x="768240" y="48927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11"/>
          <a:stretch/>
        </p:blipFill>
        <p:spPr>
          <a:xfrm>
            <a:off x="770040" y="55292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10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-15840" y="1484280"/>
            <a:ext cx="9191520" cy="543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loplošné užívá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resor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vě úrovně smlu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astaveny přesné kro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voplánově podpor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dpůrné skupiny a ko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ktivity pro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755640" y="3213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Angl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8"/>
          <a:stretch/>
        </p:blipFill>
        <p:spPr>
          <a:xfrm>
            <a:off x="755640" y="2651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9"/>
          <a:stretch/>
        </p:blipFill>
        <p:spPr>
          <a:xfrm>
            <a:off x="755640" y="37609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0"/>
          <a:stretch/>
        </p:blipFill>
        <p:spPr>
          <a:xfrm>
            <a:off x="755640" y="42926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1"/>
          <a:stretch/>
        </p:blipFill>
        <p:spPr>
          <a:xfrm>
            <a:off x="755640" y="47973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2"/>
          <a:stretch/>
        </p:blipFill>
        <p:spPr>
          <a:xfrm>
            <a:off x="755640" y="53593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3"/>
          <a:stretch/>
        </p:blipFill>
        <p:spPr>
          <a:xfrm>
            <a:off x="755640" y="58770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381400" y="0"/>
            <a:ext cx="676260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7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20520" y="1484280"/>
            <a:ext cx="9173880" cy="551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užívání ne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v kompetenci šk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rozhodnutí o užívání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forma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povinnost rodič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alší postup v případě nepl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1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35" name="Picture 11" descr=""/>
          <p:cNvPicPr/>
          <p:nvPr/>
        </p:nvPicPr>
        <p:blipFill>
          <a:blip r:embed="rId7"/>
          <a:stretch/>
        </p:blipFill>
        <p:spPr>
          <a:xfrm>
            <a:off x="784080" y="363852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statní zem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8"/>
          <a:stretch/>
        </p:blipFill>
        <p:spPr>
          <a:xfrm>
            <a:off x="770040" y="29750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9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-7920" y="1484280"/>
            <a:ext cx="9159840" cy="500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47" name="Text Box 12"/>
          <p:cNvSpPr/>
          <p:nvPr/>
        </p:nvSpPr>
        <p:spPr>
          <a:xfrm>
            <a:off x="179280" y="3284640"/>
            <a:ext cx="85694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 Unicode MS"/>
              </a:rPr>
              <a:t>salavcova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@vuppraha.c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59:18Z</dcterms:created>
  <dc:creator>Miroslava Salavcová</dc:creator>
  <dc:description/>
  <dc:language>en-US</dc:language>
  <cp:lastModifiedBy>neklapilovav</cp:lastModifiedBy>
  <dcterms:modified xsi:type="dcterms:W3CDTF">2011-04-04T06:21:08Z</dcterms:modified>
  <cp:revision>8</cp:revision>
  <dc:subject/>
  <dc:title>Snímek 1</dc:title>
</cp:coreProperties>
</file>