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BFF3-C8B6-40B1-9C2B-7AFCA0EDA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E15D-DAB6-4FF4-B72A-63100184FB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EDCC-5655-429A-8402-9A93160A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9EB5-7345-4E2A-BDB4-E61576B3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9F8A-0DEA-455A-A5CF-FFBFE985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65AF-0545-4E29-A32F-89AA467A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4A81-7AEE-4C49-BA33-050DEF51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28F8-2AC6-4CD6-8270-146C7BC1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067C-BDBE-4A0D-B0B5-AB76BE45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588E-3B32-423A-B720-97A995EF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0D97-EC67-4B30-BEC6-77F2C6D0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3B6E-FCE2-448A-8B29-8A82C61F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232-0FCC-4AB1-9C56-F6DC140F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FB87-0C7D-455B-B15F-E6CC6790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EAB3-CD93-4987-AC60-0199D5B38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133360"/>
            <a:ext cx="89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áclav Mertin</a:t>
            </a:r>
            <a:br>
              <a:rPr sz="3200"/>
            </a:b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4.4.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Začlenění „nátlaku“ do kontextu stávajících předpisů</a:t>
            </a:r>
            <a:endParaRPr b="1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kolský zák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ákon o rodi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vinnost pečovat o tělesné a duševní zdra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ávaznost péče a dáv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VýP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této fázi vznikne plán podpory, který podepíše škola, rodiče, event. i žá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krét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č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izovatel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trolovatel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Úkoly“ pro všechny zúčastně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Komplikace realizac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dič odmítne podeps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á právo, škola plní to, co lze bez souhlasu rodičů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ič je upozorněn na navazující kroky školy, když se situace nebude lep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dič odsouhlasí, podepíše a neplní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škola naléhá na plnění nebo modifikuje návr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ič je upozorněn na navazující kroky školy, když se situace nebude lep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ávaznost dalších opatřen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 vyšetření a začlenění do kategorií, ale hledání a poskytování c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ktická pomoc poradenského systému  (individuální a skupinová práce s dětmi, vzdělávání rodič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álná podpora OSPO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padná psychiatrická pom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olnočasové ak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Změny na straně školstv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Školství musí zajistit vzdělávání učitel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školní docházka by se měla změnit na povinné vzdělávání (změna ústavního záko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tevře se větší prostor rodině, ale i šk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by došlo ke vzdělávání ve škole, musí i rodiče akceptovat podmínky ško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raznější reorientace poradenských služ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4800" spc="-1" strike="noStrike">
                <a:solidFill>
                  <a:srgbClr val="000000"/>
                </a:solidFill>
                <a:latin typeface="Calibri"/>
              </a:rPr>
              <a:t>Rádio Jerevan</a:t>
            </a: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4800" spc="-1" strike="noStrike">
                <a:solidFill>
                  <a:srgbClr val="000000"/>
                </a:solidFill>
                <a:latin typeface="Calibri"/>
              </a:rPr>
              <a:t>hlásí“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Školy budou nekázeň žáků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it smlouvou s rodiči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avrhl ministr Dobe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(idnes.cz, 2.4.2011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roblémy s chováním žáků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sou reáln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bírají čas na uč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hrožují bezpečnost a pohodu žáků i učitel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ižují efekt výu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ožná řešen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sílení pozice učitele (např. učitel jako veřejná osob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Zvýraznění sankcí vůči žákům i rodičů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ístnosti ve škole, kde by byl žák pod dohled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yšetření v PPP bez souhlasu rodič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debírání dáv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Škola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odborná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edukační instituce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mární zaměření na edukaci, tedy na vzdělání a výchovu dítě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kundární zaměření na podporu a pomoc rodičů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Vý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VýP vytváří rám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VýP není řešení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912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měřený primárně na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moc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dítěti, rodině i učiteli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ž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kundárně na rep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guje na potenciální ohrožení nebo na problémy v zárod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. fáz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Učitel zachytí možnost problémů či jejich výskyt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Nutno začít na prvním stupni (problémy nebývají závažné, rodiče jsou ochotnější spolupracovat)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Kontakt s rodiči,  konkrétní domluva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tručný zápis, žádná formalizovaná dohoda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. fáz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jde ke zlepšení/nenastane problé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ní dále co ře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Problém přetrvává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intenzívnění práce školy, spolupráce s rodiči, s odbornými instituce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lást otázky, co lze udělat ke zlepšení situac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vádět možnosti škol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žádat, co udělají rodiče, případně někdo jin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vést i další postup, když se situace nebude měnit - zesílení „nátlaku“ na rodič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8:06:01Z</dcterms:created>
  <dc:creator>notebook</dc:creator>
  <dc:description/>
  <dc:language>en-US</dc:language>
  <cp:lastModifiedBy>Install</cp:lastModifiedBy>
  <dcterms:modified xsi:type="dcterms:W3CDTF">2011-04-04T04:58:53Z</dcterms:modified>
  <cp:revision>39</cp:revision>
  <dc:subject/>
  <dc:title>Individuální výchovný plán</dc:title>
</cp:coreProperties>
</file>