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9A8E-EDF1-4533-9A23-88E65814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173D-5500-4BE9-919D-9CA4871B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C80F-6364-4B73-BDC9-427520925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AE09-4642-411B-8A79-F82484B0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131B-038B-4B33-9BD9-237FF6CF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6DEA-F57E-44CC-98FE-CEEF1C76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224-802D-40F1-98CF-C462D807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4C31-DBDC-4103-8870-ECC88069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408A-11CB-4F69-99FB-3AE626F3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CCC5-7555-4F2E-8244-75883D23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DC48-FBBC-4D94-9EA3-1224C0B0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ADDC-2E87-466A-959B-9BEEB9E1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55E5-D7D4-472A-AE13-CBBAF0C2BDAA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417760" y="0"/>
            <a:ext cx="67183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42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-31680" y="1484280"/>
            <a:ext cx="9175680" cy="509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aedDr. Miroslava Salavc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VÚP Pra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5"/>
          <a:stretch/>
        </p:blipFill>
        <p:spPr>
          <a:xfrm>
            <a:off x="-30240" y="6553080"/>
            <a:ext cx="20923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6"/>
          <a:stretch/>
        </p:blipFill>
        <p:spPr>
          <a:xfrm>
            <a:off x="-22320" y="0"/>
            <a:ext cx="2649600" cy="153504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50" name="Text Box 12"/>
          <p:cNvSpPr/>
          <p:nvPr/>
        </p:nvSpPr>
        <p:spPr>
          <a:xfrm>
            <a:off x="250920" y="2492280"/>
            <a:ext cx="8569080" cy="62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Arial"/>
              </a:rPr>
              <a:t>Zahraniční zkušenosti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Smlouvy rodičů se škol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336760" y="0"/>
            <a:ext cx="6829560" cy="27813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52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-15840" y="1521000"/>
            <a:ext cx="9191520" cy="52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</a:t>
            </a: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ystémy využívání ve svě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ojekt COPAS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ěmeck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ngl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ostatní zem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6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884680" cy="30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5573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60" name="Picture 11" descr=""/>
          <p:cNvPicPr/>
          <p:nvPr/>
        </p:nvPicPr>
        <p:blipFill>
          <a:blip r:embed="rId7"/>
          <a:stretch/>
        </p:blipFill>
        <p:spPr>
          <a:xfrm>
            <a:off x="755640" y="365904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2"/>
          <p:cNvSpPr/>
          <p:nvPr/>
        </p:nvSpPr>
        <p:spPr>
          <a:xfrm>
            <a:off x="324000" y="14698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Obsah prezent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13" descr=""/>
          <p:cNvPicPr/>
          <p:nvPr/>
        </p:nvPicPr>
        <p:blipFill>
          <a:blip r:embed="rId8"/>
          <a:stretch/>
        </p:blipFill>
        <p:spPr>
          <a:xfrm>
            <a:off x="755640" y="2997360"/>
            <a:ext cx="250920" cy="247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9"/>
          <a:stretch/>
        </p:blipFill>
        <p:spPr>
          <a:xfrm>
            <a:off x="755640" y="43117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10"/>
          <a:stretch/>
        </p:blipFill>
        <p:spPr>
          <a:xfrm>
            <a:off x="754200" y="4950000"/>
            <a:ext cx="250560" cy="247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11"/>
          <a:stretch/>
        </p:blipFill>
        <p:spPr>
          <a:xfrm>
            <a:off x="757080" y="564984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67" name="Text Box 4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-7920" y="1484280"/>
            <a:ext cx="915984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ilotní</a:t>
            </a:r>
            <a:r>
              <a:rPr b="1" lang="cs-CZ" sz="2800" spc="-1" strike="noStrike">
                <a:solidFill>
                  <a:srgbClr val="003f7e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ojek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vinné neceloploš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vinné celoploš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epovin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1" name="Text Box 10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75" name="Picture 22" descr=""/>
          <p:cNvPicPr/>
          <p:nvPr/>
        </p:nvPicPr>
        <p:blipFill>
          <a:blip r:embed="rId7"/>
          <a:stretch/>
        </p:blipFill>
        <p:spPr>
          <a:xfrm>
            <a:off x="755640" y="342900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3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Systémy využívání ve svět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24" descr=""/>
          <p:cNvPicPr/>
          <p:nvPr/>
        </p:nvPicPr>
        <p:blipFill>
          <a:blip r:embed="rId8"/>
          <a:stretch/>
        </p:blipFill>
        <p:spPr>
          <a:xfrm>
            <a:off x="755640" y="5315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"/>
          <p:cNvPicPr/>
          <p:nvPr/>
        </p:nvPicPr>
        <p:blipFill>
          <a:blip r:embed="rId9"/>
          <a:stretch/>
        </p:blipFill>
        <p:spPr>
          <a:xfrm>
            <a:off x="755640" y="40449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"/>
          <p:cNvPicPr/>
          <p:nvPr/>
        </p:nvPicPr>
        <p:blipFill>
          <a:blip r:embed="rId10"/>
          <a:stretch/>
        </p:blipFill>
        <p:spPr>
          <a:xfrm>
            <a:off x="755640" y="4694400"/>
            <a:ext cx="250920" cy="24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395440" y="0"/>
            <a:ext cx="675648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81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-15840" y="1484280"/>
            <a:ext cx="9190080" cy="526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10 zemí E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komparativní analý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polupráce školy a rod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ilotáž dohody rodičů se škol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dobrovol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závaz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osvědčily 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5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89" name="Picture 11" descr=""/>
          <p:cNvPicPr/>
          <p:nvPr/>
        </p:nvPicPr>
        <p:blipFill>
          <a:blip r:embed="rId7"/>
          <a:stretch/>
        </p:blipFill>
        <p:spPr>
          <a:xfrm>
            <a:off x="755640" y="420696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324000" y="1413000"/>
            <a:ext cx="85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Projekt COPAS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(Cooperation-Parents-Schoo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8"/>
          <a:stretch/>
        </p:blipFill>
        <p:spPr>
          <a:xfrm>
            <a:off x="755640" y="292428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"/>
          <p:cNvPicPr/>
          <p:nvPr/>
        </p:nvPicPr>
        <p:blipFill>
          <a:blip r:embed="rId9"/>
          <a:stretch/>
        </p:blipFill>
        <p:spPr>
          <a:xfrm>
            <a:off x="755640" y="4829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"/>
          <p:cNvPicPr/>
          <p:nvPr/>
        </p:nvPicPr>
        <p:blipFill>
          <a:blip r:embed="rId10"/>
          <a:stretch/>
        </p:blipFill>
        <p:spPr>
          <a:xfrm>
            <a:off x="760320" y="354960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5504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95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-7920" y="1484280"/>
            <a:ext cx="9183600" cy="513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z rozhodnutí zemských vlád a úřad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entrální řízení – pouze koordin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eceloplošné uží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ávní základ ve školských zákon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truktura a použití v kompetenci šk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9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900520" cy="30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03" name="Picture 11" descr=""/>
          <p:cNvPicPr/>
          <p:nvPr/>
        </p:nvPicPr>
        <p:blipFill>
          <a:blip r:embed="rId7"/>
          <a:stretch/>
        </p:blipFill>
        <p:spPr>
          <a:xfrm>
            <a:off x="770040" y="3611520"/>
            <a:ext cx="250560" cy="2476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Německ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13" descr=""/>
          <p:cNvPicPr/>
          <p:nvPr/>
        </p:nvPicPr>
        <p:blipFill>
          <a:blip r:embed="rId8"/>
          <a:stretch/>
        </p:blipFill>
        <p:spPr>
          <a:xfrm>
            <a:off x="771480" y="294948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9"/>
          <a:stretch/>
        </p:blipFill>
        <p:spPr>
          <a:xfrm>
            <a:off x="770040" y="4253040"/>
            <a:ext cx="250560" cy="24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10"/>
          <a:stretch/>
        </p:blipFill>
        <p:spPr>
          <a:xfrm>
            <a:off x="768240" y="48927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"/>
          <p:cNvPicPr/>
          <p:nvPr/>
        </p:nvPicPr>
        <p:blipFill>
          <a:blip r:embed="rId11"/>
          <a:stretch/>
        </p:blipFill>
        <p:spPr>
          <a:xfrm>
            <a:off x="770040" y="5529240"/>
            <a:ext cx="2505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5504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10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-15840" y="1484280"/>
            <a:ext cx="9191520" cy="543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eloplošné užívání legislativně podlož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polupráce resort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dvě úrovně smlu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astaveny přesné kro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voplánově podpora rod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dpůrné skupiny a ko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ktivity pro rodič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4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18" name="Picture 11" descr=""/>
          <p:cNvPicPr/>
          <p:nvPr/>
        </p:nvPicPr>
        <p:blipFill>
          <a:blip r:embed="rId7"/>
          <a:stretch/>
        </p:blipFill>
        <p:spPr>
          <a:xfrm>
            <a:off x="755640" y="321300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Angl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13" descr=""/>
          <p:cNvPicPr/>
          <p:nvPr/>
        </p:nvPicPr>
        <p:blipFill>
          <a:blip r:embed="rId8"/>
          <a:stretch/>
        </p:blipFill>
        <p:spPr>
          <a:xfrm>
            <a:off x="755640" y="2651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"/>
          <p:cNvPicPr/>
          <p:nvPr/>
        </p:nvPicPr>
        <p:blipFill>
          <a:blip r:embed="rId9"/>
          <a:stretch/>
        </p:blipFill>
        <p:spPr>
          <a:xfrm>
            <a:off x="755640" y="37609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10"/>
          <a:stretch/>
        </p:blipFill>
        <p:spPr>
          <a:xfrm>
            <a:off x="755640" y="42926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"/>
          <p:cNvPicPr/>
          <p:nvPr/>
        </p:nvPicPr>
        <p:blipFill>
          <a:blip r:embed="rId11"/>
          <a:stretch/>
        </p:blipFill>
        <p:spPr>
          <a:xfrm>
            <a:off x="755640" y="47973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12"/>
          <a:stretch/>
        </p:blipFill>
        <p:spPr>
          <a:xfrm>
            <a:off x="755640" y="53593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"/>
          <p:cNvPicPr/>
          <p:nvPr/>
        </p:nvPicPr>
        <p:blipFill>
          <a:blip r:embed="rId13"/>
          <a:stretch/>
        </p:blipFill>
        <p:spPr>
          <a:xfrm>
            <a:off x="755640" y="587700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381400" y="0"/>
            <a:ext cx="676260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27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-20520" y="1484280"/>
            <a:ext cx="9173880" cy="551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67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užívání není legislativně podlož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v kompetenci ško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rozhodnutí o užívání do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forma do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povinnost rodič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další postup v případě neplně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1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35" name="Picture 11" descr=""/>
          <p:cNvPicPr/>
          <p:nvPr/>
        </p:nvPicPr>
        <p:blipFill>
          <a:blip r:embed="rId7"/>
          <a:stretch/>
        </p:blipFill>
        <p:spPr>
          <a:xfrm>
            <a:off x="784080" y="363852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Ostatní zem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13" descr=""/>
          <p:cNvPicPr/>
          <p:nvPr/>
        </p:nvPicPr>
        <p:blipFill>
          <a:blip r:embed="rId8"/>
          <a:stretch/>
        </p:blipFill>
        <p:spPr>
          <a:xfrm>
            <a:off x="770040" y="2975040"/>
            <a:ext cx="2505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39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-7920" y="1484280"/>
            <a:ext cx="9159840" cy="500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3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47" name="Text Box 12"/>
          <p:cNvSpPr/>
          <p:nvPr/>
        </p:nvSpPr>
        <p:spPr>
          <a:xfrm>
            <a:off x="179280" y="3284640"/>
            <a:ext cx="85694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Děkuji za pozorno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 Unicode MS"/>
              </a:rPr>
              <a:t>salavcova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@vuppraha.c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2:59:18Z</dcterms:created>
  <dc:creator>Miroslava Salavcová</dc:creator>
  <dc:description/>
  <dc:language>en-US</dc:language>
  <cp:lastModifiedBy>neklapilovav</cp:lastModifiedBy>
  <dcterms:modified xsi:type="dcterms:W3CDTF">2011-04-04T06:21:08Z</dcterms:modified>
  <cp:revision>8</cp:revision>
  <dc:subject/>
  <dc:title>Snímek 1</dc:title>
</cp:coreProperties>
</file>