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A0AA-03B6-428B-8AE9-7913FFB2D5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6F5A-3D7F-4A01-A312-11BCC22C38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5DC1-8F4F-4DCD-8FDC-56B1144C2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7DA4-E537-4689-971D-454C79F3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64EA-1E08-4FE0-9579-39F9594F3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90FA-6D6E-49E0-86B0-12CA56276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E1B9-C2EF-41D0-BDCF-FF14709A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4EC4-2400-422F-9DAB-C5E849BC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0397-23B4-4781-A0E1-962A6B7F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8506-AA4E-43D0-9691-067070F7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32FA-1C50-4D57-B3D2-EA104E21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F65D-4553-432A-A7A5-1C3BB8CB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4E68-E04D-4A37-8136-63C1B756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B26E-C041-4560-B0AF-50EA8353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72EA-97FF-401A-AB7A-5F468C80A4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2133360"/>
            <a:ext cx="896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Individuální výchovný plán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áclav Mertin</a:t>
            </a:r>
            <a:br>
              <a:rPr sz="3200"/>
            </a:b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4.4.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Calibri"/>
              </a:rPr>
              <a:t>Začlenění „nátlaku“ do kontextu stávajících předpisů</a:t>
            </a:r>
            <a:endParaRPr b="1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kolský zák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ákon o rodi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vinnost pečovat o tělesné a duševní zdra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ávaznost péče a dáv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VýP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této fázi vznikne plán podpory, který podepíše škola, rodiče, event. i žá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nkrét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č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lizovatel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ntrolovatel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Úkoly“ pro všechny zúčastně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Komplikace realizace 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dič odmítne podeps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á právo, škola plní to, co lze bez souhlasu rodičů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dič je upozorněn na navazující kroky školy, když se situace nebude lepš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dič odsouhlasí, podepíše a neplní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škola naléhá na plnění nebo modifikuje návrh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dič je upozorněn na navazující kroky školy, když se situace nebude lepš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Návaznost dalších opatření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 vyšetření a začlenění do kategorií, ale hledání a poskytování c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ktická pomoc poradenského systému  (individuální a skupinová práce s dětmi, vzdělávání rodičů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eálná podpora OSPO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padná psychiatrická pomo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olnočasové ak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Změny na straně školství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Školství musí zajistit vzdělávání učitel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vinná školní docházka by se měla změnit na povinné vzdělávání (změna ústavního záko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tevře se větší prostor rodině, ale i šk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by došlo ke vzdělávání ve škole, musí i rodiče akceptovat podmínky ško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raznější reorientace poradenských služ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4800" spc="-1" strike="noStrike">
                <a:solidFill>
                  <a:srgbClr val="000000"/>
                </a:solidFill>
                <a:latin typeface="Calibri"/>
              </a:rPr>
              <a:t>Rádio Jerevan</a:t>
            </a:r>
            <a:r>
              <a:rPr b="1" lang="cs-CZ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4800" spc="-1" strike="noStrike">
                <a:solidFill>
                  <a:srgbClr val="000000"/>
                </a:solidFill>
                <a:latin typeface="Calibri"/>
              </a:rPr>
              <a:t>hlásí“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Školy budou nekázeň žáků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šit smlouvou s rodiči,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avrhl ministr Dobe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(idnes.cz, 2.4.2011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Problémy s chováním žáků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sou reáln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bírají čas na uč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hrožují bezpečnost a pohodu žáků i učitel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nižují efekt výu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Možná řešení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sílení pozice učitele (např. učitel jako veřejná osob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Zvýraznění sankcí vůči žákům i rodičů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ístnosti ve škole, kde by byl žák pod dohled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yšetření v PPP bez souhlasu rodič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debírání dáv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Škola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Calibri"/>
              </a:rPr>
              <a:t>odborná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edukační instituce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mární zaměření na edukaci, tedy na vzdělání a výchovu dítě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kundární zaměření na podporu a pomoc rodičů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Vý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dividuální výchovný plán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VýP vytváří rám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VýP není řešení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dividuální výchovný plán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1912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měřený primárně na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moc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dítěti, rodině i učiteli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ž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kundárně na repre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guje na potenciální ohrožení nebo na problémy v zárodk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1. fáze 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Učitel zachytí možnost problémů či jejich výskyt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Nutno začít na prvním stupni (problémy nebývají závažné, rodiče jsou ochotnější spolupracovat)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Kontakt s rodiči,  konkrétní domluva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Stručný zápis, žádná formalizovaná dohoda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2. fáze 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jde ke zlepšení/nenastane problé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6040" indent="-536040"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ní dále co řeš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6040" indent="-536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Problém přetrvává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intenzívnění práce školy, spolupráce s rodiči, s odbornými instituce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lást otázky, co lze udělat ke zlepšení situac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vádět možnosti školy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žádat, co udělají rodiče, případně někdo jin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vést i další postup, když se situace nebude měnit - zesílení „nátlaku“ na rodič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08:06:01Z</dcterms:created>
  <dc:creator>notebook</dc:creator>
  <dc:description/>
  <dc:language>en-US</dc:language>
  <cp:lastModifiedBy>Install</cp:lastModifiedBy>
  <dcterms:modified xsi:type="dcterms:W3CDTF">2011-04-04T04:58:53Z</dcterms:modified>
  <cp:revision>39</cp:revision>
  <dc:subject/>
  <dc:title>Individuální výchovný plán</dc:title>
</cp:coreProperties>
</file>